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289-4738-4501-A62A-113B32EC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571-A5A6-408C-83BD-03EAEC49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4CD-C82E-4770-B6F8-5FB7AB68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CD4-9872-4931-80F7-28902480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F14-F8BF-481E-AA6A-4A53CD8E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5D5-C299-4AAB-88EE-BBF0F18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8B5-60E3-4D8B-A045-0F3A2952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DB0-F004-4525-B7FE-3A971502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178-D881-4C4B-9637-8023B78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787-1186-4EBF-B638-97B2E15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E48-29F6-4F22-92C3-B062062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B94-B670-48F0-97D8-D78557C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C587-5C9F-4116-99B9-BD92B8796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ake a tally chart to record the different coloured cars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-316080"/>
            <a:ext cx="6553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908 -0.04325 L -3.05556E-006 3.27475E-006 E">
                                      <p:cBhvr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802E-007 L 0.84271 -6.93802E-007 E">
                                      <p:cBhvr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1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1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atch carefully!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nt how many of each colour car you saw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7:15:01Z</dcterms:created>
  <dc:creator>TEACHER</dc:creator>
  <dc:description/>
  <dc:language>en-US</dc:language>
  <cp:lastModifiedBy>TEACHER</cp:lastModifiedBy>
  <dcterms:modified xsi:type="dcterms:W3CDTF">2008-02-05T17:26:09Z</dcterms:modified>
  <cp:revision>9</cp:revision>
  <dc:subject/>
  <dc:title>Slide 1</dc:title>
</cp:coreProperties>
</file>