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4145-2E56-48F5-9043-D74ACCE1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CCDC-601F-46A2-ACB9-06C1DDA5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C95C-3ED2-497F-AF32-43BBA280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3D07-45D1-4A3A-BE1C-A11DA464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1065-049A-4EB6-ACF8-460EF8E9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F5E4-3B9E-4212-ABF5-15EB314E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216E-5109-4373-A57C-8F8C517B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4567-1DD5-444F-A351-B0214F3D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239A-C1B6-4B91-A30B-6450E854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95EC-1ECD-4EC7-921B-D006FC20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651A-2607-4E29-B233-A2EDA464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43DD-AF73-451A-8B8C-A7015BDD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1E96-7B18-45F4-9DF4-737BDD9D0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People Who Help U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6148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4514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42181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32288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6148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42181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6148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42181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4514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42181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ke a tally chart of the people you se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79640" y="3141720"/>
            <a:ext cx="2054160" cy="2733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3213000"/>
            <a:ext cx="2000160" cy="2664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64000" y="2924280"/>
            <a:ext cx="2233440" cy="2973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292720" y="3068640"/>
            <a:ext cx="2111400" cy="2811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659640" y="2781360"/>
            <a:ext cx="223344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32288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4514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6148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2735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6148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Did you watch carefully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8036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many postmen did you see?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many policemen did you see?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How many vets did you see?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How many firemen did you see?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many doctors did you s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659640" y="4941720"/>
            <a:ext cx="485640" cy="646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732720" y="836640"/>
            <a:ext cx="811080" cy="1079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804000" y="2133720"/>
            <a:ext cx="665280" cy="885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012000" y="2924280"/>
            <a:ext cx="544320" cy="723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6443640" y="3860640"/>
            <a:ext cx="6652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Watch carefully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32288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6148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42181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4514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6148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42181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20:55Z</dcterms:created>
  <dc:creator>TEACHER</dc:creator>
  <dc:description/>
  <dc:language>en-US</dc:language>
  <cp:lastModifiedBy>Staff</cp:lastModifiedBy>
  <dcterms:modified xsi:type="dcterms:W3CDTF">2007-01-17T07:41:28Z</dcterms:modified>
  <cp:revision>1</cp:revision>
  <dc:subject/>
  <dc:title>People Who Help Us!</dc:title>
</cp:coreProperties>
</file>